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375930"/>
        <c:axId val="60591667"/>
      </c:barChart>
      <c:catAx>
        <c:axId val="713759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91667"/>
        <c:crosses val="autoZero"/>
        <c:auto val="1"/>
        <c:lblAlgn val="ctr"/>
        <c:lblOffset val="100"/>
        <c:noMultiLvlLbl val="0"/>
      </c:catAx>
      <c:valAx>
        <c:axId val="605916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759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6CE7-7E9B-4404-8914-A2DB6C63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A6C1-27A6-49A8-922C-4B47D272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E211-27B1-4F36-9C72-58335085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96C1-01C1-4E6B-A63C-68FF3557B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D5E3-A331-456A-A3C4-7C910E48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32EB-834E-4F48-9556-B9CE915D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A18E-C6DC-4FCB-B83D-BCE49F7B4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BC91-473B-4602-93D4-4FC626350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708C-362E-4552-9376-E635B9A0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9798-6819-4DDA-9E57-E7AABE947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C3E4-C5B9-48AA-AF03-60F65863B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8E34-1321-4E60-B05F-DB351FBD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B0A7BB-527F-461F-A92C-02574AF137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