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69247"/>
        <c:axId val="93963301"/>
      </c:barChart>
      <c:catAx>
        <c:axId val="22769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63301"/>
        <c:crosses val="autoZero"/>
        <c:auto val="1"/>
        <c:lblAlgn val="ctr"/>
        <c:lblOffset val="100"/>
        <c:noMultiLvlLbl val="0"/>
      </c:catAx>
      <c:valAx>
        <c:axId val="93963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69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02D-7445-485F-A3D9-FF536B8C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3F5-92BC-4BC8-8F50-CC1E7FE6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938-6389-4587-8955-8BFA6C17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707-5C57-4526-A8E3-98E702CC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CF7-5337-4F51-8A4E-0D4AB8DB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48D-E725-4DAD-8BE7-6B449CA9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24A-63A6-47F2-9703-F213632D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F71-321A-41DD-9DDF-3B6510F0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310-3497-4641-9029-ED29C985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25A-C822-419B-A894-D150DBC6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AA6-2C83-4D64-B8D8-561D6092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721-53CC-4C90-AD32-AF2132AB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FC716-D56B-4912-8EBE-6E7FC6DA35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