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33564"/>
        <c:axId val="15309424"/>
      </c:barChart>
      <c:catAx>
        <c:axId val="22233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09424"/>
        <c:crosses val="autoZero"/>
        <c:auto val="1"/>
        <c:lblAlgn val="ctr"/>
        <c:lblOffset val="100"/>
        <c:noMultiLvlLbl val="0"/>
      </c:catAx>
      <c:valAx>
        <c:axId val="15309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33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B7B-9074-405A-BF98-FB0AA7E2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EB8-4CA9-4F0B-9FAA-3749B354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742-D38A-4749-87C4-B1F11C91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C6A2-547E-4AA6-A5A4-60C7A5B9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13F-5D2A-42FE-B83A-DAA87530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98B1-4255-4046-B300-E2CBDEC0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674-F08E-4F30-A5DB-A058DC9D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6F3B-A56F-47E4-9189-5B2CB30B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E1E-F3ED-43A6-ABD5-A8322EF0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E94-21E2-462E-B7C7-352E6B35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CA2E-11FE-4E6E-91CB-9D207FCF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587-40F8-42F3-A939-25C391FE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62C7B-B131-4282-B529-3C08EC21FE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