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88778"/>
        <c:axId val="34384532"/>
      </c:barChart>
      <c:catAx>
        <c:axId val="48288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4532"/>
        <c:crosses val="autoZero"/>
        <c:auto val="1"/>
        <c:lblAlgn val="ctr"/>
        <c:lblOffset val="100"/>
        <c:noMultiLvlLbl val="0"/>
      </c:catAx>
      <c:valAx>
        <c:axId val="34384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8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F87-5BEB-4F5C-A2AA-23DCFD74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A05-3725-4F2D-BB87-38D6E20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F8B-C817-4588-9461-0016D3CD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9D2-5EAC-4EB3-B23C-55A2B83F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E92-65EC-4B7C-AB2E-35B9896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02C-0232-4AEE-9BAB-CD4CC45B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389-308F-4159-874A-4827983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D3D-28A7-4704-A0D5-B05990C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88A-149F-48FD-A475-749160AF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F54-2FD4-42D6-86D3-0461428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A15-EBDD-46C1-8945-0F10120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8B5-9EC0-4109-861E-D1F080B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6E4FD-88B3-47F6-86E6-8AED5EB11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